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16AC-937E-4E5D-B2B5-B18D4FBF2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0240" y="765072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C6C0-D181-4D06-97EF-0211EE2B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320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BE31-43A3-40AA-BC38-BF6F1DCA8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996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004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6024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996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004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D984-DD84-488B-A82F-2C9604CBD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F21C-E816-476E-959C-FFBDE80A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8819-005E-43AB-BDA2-98F7E4B0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3AC2-ED4C-4DAD-B546-322748C4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BA4D-9FE2-4695-82E0-998E6DF0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680760"/>
            <a:ext cx="8280720" cy="1147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E56C-2146-4890-99BC-626C9CA7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599B-86C2-4B5B-AEFB-9B5646CF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320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2129-9A29-40A9-89F2-53B3C183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9582-7D4F-4C13-95CB-1F91A0FA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976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679400" indent="-2394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0240" y="11864880"/>
            <a:ext cx="216072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79880" y="11864880"/>
            <a:ext cx="3241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0240" y="11864880"/>
            <a:ext cx="216072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CDBD-E43D-4AAD-B740-A6CE286D15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3"/>
          <p:cNvSpPr/>
          <p:nvPr/>
        </p:nvSpPr>
        <p:spPr>
          <a:xfrm>
            <a:off x="0" y="11660040"/>
            <a:ext cx="9601200" cy="1141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-1046160" y="9737640"/>
            <a:ext cx="11684160" cy="265752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135000" y="2028960"/>
            <a:ext cx="932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3864"/>
                </a:solidFill>
                <a:latin typeface="Calibri"/>
              </a:rPr>
              <a:t>EGE ÜNİVERSİTES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135000" y="2612880"/>
            <a:ext cx="932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b0f0"/>
                </a:solidFill>
                <a:latin typeface="Calibri"/>
              </a:rPr>
              <a:t>ANA BAŞLIK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932040" y="4067280"/>
            <a:ext cx="773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4857840" y="5457960"/>
            <a:ext cx="39481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but also the leap into electronic typesetting, remaining essentially unchanged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932040" y="7818480"/>
            <a:ext cx="3925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but also the leap into electronic typesetting, remaining essentially unchang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992160" y="5487840"/>
            <a:ext cx="3767040" cy="1965600"/>
          </a:xfrm>
          <a:prstGeom prst="rect">
            <a:avLst/>
          </a:prstGeom>
          <a:solidFill>
            <a:srgbClr val="e7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4857840" y="7808760"/>
            <a:ext cx="3768480" cy="1962360"/>
          </a:xfrm>
          <a:prstGeom prst="rect">
            <a:avLst/>
          </a:prstGeom>
          <a:solidFill>
            <a:srgbClr val="e7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3"/>
          <p:cNvSpPr/>
          <p:nvPr/>
        </p:nvSpPr>
        <p:spPr>
          <a:xfrm>
            <a:off x="992160" y="11829960"/>
            <a:ext cx="77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İLETİŞİM BİLGİLER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992160" y="12138120"/>
            <a:ext cx="77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YER: TARİH: SAA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4084560" y="554040"/>
            <a:ext cx="142092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8T07:34:26Z</dcterms:created>
  <dc:creator>Microsoft Office User</dc:creator>
  <dc:description/>
  <dc:language>en-US</dc:language>
  <cp:lastModifiedBy>Microsoft Office User</cp:lastModifiedBy>
  <dcterms:modified xsi:type="dcterms:W3CDTF">2018-08-01T13:24:28Z</dcterms:modified>
  <cp:revision>2</cp:revision>
  <dc:subject/>
  <dc:title>PowerPoint Presentation</dc:title>
</cp:coreProperties>
</file>